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C6C69-C013-4BEA-B5E7-3285BF5EC56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E76FF-9191-48C0-8A41-492F0868F33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F530E-0115-490B-80BF-4CCE7897F65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E14F8-1567-4093-8C0A-A6634E854F9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4E9B-2506-463B-9C0E-393C13EB677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A7320-B1B0-4F7A-BEF0-6C2DAE741E7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902E2-BDB2-42DA-A231-B310793E17D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74AF4-6E38-4871-A70F-30AA0B774BD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D9CDF-D1DA-4F60-8331-C5CFA6FE5AB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7F7A6-0793-4D1B-924C-240CF80D4D6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26D54-0A33-4D30-A9FA-F1E8A716C1C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B5949-B8DB-45CE-B752-E65F68A2F1E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678E5-5A10-4E5E-ABD5-A825E0CB3C2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1D1D5-E17B-4B5B-81AD-74A89D3B585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C2A01-1A0F-4B4E-8B02-F3E18E44C5B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F5351-F129-4CDF-944A-18E0B6D9416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D5FE1-A300-4912-9A18-0DF9B4F9148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E1B62-ED6A-461B-9CEB-0A6A80896ED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71BFC-DBF3-4720-8870-D6754FFF509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957B-4AE5-478B-A205-801DE2B576D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E69BF-C024-4B11-BDF7-4E6FFC2F51F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7F9E9-37C8-422A-8EE8-D99DBCFB6C1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F5FBE-EA6C-4A01-B868-F5F4E1DF2D6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3179F-93C7-450C-8F98-F1FFC06EE43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ADC0E-5E85-406B-BFA6-D4E025321B8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35476-5B21-4839-96D1-17C04DFD933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F75FA-67A5-4042-8D64-BEB66616782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B65-57FE-4218-90FB-E5C64F4F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256-0E0F-444B-9CB2-62F0926B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E44-952C-461F-AA1B-57890870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160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248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160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248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792-4E37-4677-92C9-CD0729EA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D36-3587-443D-9F95-C60A55C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317-6155-4C7F-895C-528D7BF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72A-67E7-455C-A8A4-51D889A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1C8-177D-4B10-81CA-FCD17C5E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360"/>
            <a:ext cx="845172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6A7-67AA-42DF-B645-907AB99E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203-47B7-41CC-98CA-5AA5B93B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648-6FEB-4198-B8C0-2AC825AF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724-1DFA-4E3B-8102-F34E20F4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3183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6640" y="6346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1000" y="6346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883070-2AE0-442D-8384-3642B249990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aacentre.ac.uk/resources/objective_tests/index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evie.oulu.fi/arvioinnin_abc/caset/tenttiakvaario.htm" TargetMode="External"/><Relationship Id="rId2" Type="http://schemas.openxmlformats.org/officeDocument/2006/relationships/hyperlink" Target="http://www.uta.fi/tyt/avoin/moodlestamoneksi/Sahkoinen_tenttipalvelu_TaYssa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ndjet.com/products/overview.aspx" TargetMode="External"/><Relationship Id="rId2" Type="http://schemas.openxmlformats.org/officeDocument/2006/relationships/hyperlink" Target="http://www.joensuu.fi/isvy/arviointimateriaali/kasitekohjeet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.uvic.ca/hrd/halfbake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arviointi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myssyohjee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oensuu.fi/isvy/arviointimateriaali/yleista_arv_menetelmist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penetti.aokk.hamk.fi/ntm2001/portfoli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0360" y="1934640"/>
            <a:ext cx="885348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720720" y="1994040"/>
            <a:ext cx="8853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eija Kaaki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rkko-opetus 4 o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ktroniset testit - Itsearviointitestit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Quizz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eltuvat hyvin mm. lähtötietotaso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E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so oheisesta linkistä oppimistyylin arviointiin kehitetty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ma työkalu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360" y="598320"/>
            <a:ext cx="84582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pettajalle palautuvat elektroniset testit: kvantitatiiviset (objektiiviset) ja kvalitatiiviset (subjektiiviset) tes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20360" y="180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ntitatiivisia testejä ovat testit, joiden kysymyksiin on olem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ty määriteltävissä oleva vasta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litatiivisissa testeissä oikeita vastauksia voi olla us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160720" y="3419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vantitatiiviset testit arvioinni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674720"/>
            <a:ext cx="885348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yseessä ”kysymys-vastaus” -tyyppi, jossa oikea vastaus on määritettäviss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.Monivalintakysymykset (Multiple Choice Questions ja Multiple Respons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) Runko, B) häiritsevät/väärät ja C) oikeat vastau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runko on yksinkertainen, yksiselitteinen, vähän negaatioita, ei sanoj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aina” tai ”ei koskaa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auksissa älä anna vinkkejä, väärienkin vastausten pitäisi oll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.Oikein-väärin –väittäm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.Yhdistelytehtävät (laita enemmän ”vastauksia” kuin ”kysymyksiä”, salli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seampi oikea ”vastaus”/”kysymys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.Järjestävät kysymy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5.Kuvasta kohteen tai paikan tunnistaminen (Graphical Hotspot tai Imag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bell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.Lyhyen numeraalisen tai verbaalisen vastauksen antaminen (”tyhjät aukot”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im. kielissä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vantitatiiviset tes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20360" y="2101680"/>
            <a:ext cx="88534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kset nopeita tarkastaa, koska kone voi sen tehd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leensä myös nopeita vastata, joten kysymyksillä voidaa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taa laaja materia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Tilastolliset analyysit opiskelijoiden taidoista helppo kartoit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ysymyksiin voidaan sisällyttää automaattista palautett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vihjeitä, ohjeistusta, pisteyty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Sopivat faktatiedon kontrollointiin ja itsearviointiin, ei helpost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gumentaatiota vaativaa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ngelmana myös arvaamisen mahdollisuus ja autentik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steist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5076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valitatiiviset (subjektiiviset) tes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0360" y="143964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i yhtä ainoaa oikeaa vastau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a ei voi automatiso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ikaa vieviä tarkas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ntavat laadullisen kuvan opiskelijan oppimis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sim. esseet, raportit, tiivistelmät,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496960" y="3301920"/>
            <a:ext cx="542304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nen kuulustel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1844280"/>
            <a:ext cx="885348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inteinen kirjallinen tentti, mutta suorituspaikkana tietoverk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ka ja paikka vapaammin valittav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akvaario on tietokantapohjainen sovellus, joka on suunniteltu erityisesti yliopistojen y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päivien täydentäjäksi. Sen avulla opiskelija voi tenttiä kurssit itselleen parhaiten sopi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jankohtana. Kuulusteluun vastaaminen tapahtuu valvotussa tilassa. Myös opettajan ty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elpottuu, sillä Tenttiakvaario perustaa kunkin tenttitilaisuuden automaattisesti. Opettaja määrittä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n ohjeet tentin muodostamista varten sekä tallentaa ennakolta 20-50 kysymystä tietokant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inoaksi tehtäväksi jää tentin arvostelu, joka sekin tapahtuu tietokoneen avulla – il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äsialaongelmia. Lue lisää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nttiakvaari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odle-järjestelmän sähköisen tentin informaatiota löydät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set tehtävä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sse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käytä mielenkiintoisia ja autenttisia aihei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ksilö- tai ryhmätyönä (myös arvioin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rosessointia voi tehdä omassa tahdissa + (a)synkron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ossa, verkko mahdollistaa hyvin laadullisen ja dialog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nin ja vertaisarvioinn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arjoitustyöraportit/näyttök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ettaja antaa tehtävän, oppija tekee sen ja raportoi verkos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 vertaisarviona ja opettaja-arvioin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Vahvistaa uuden tiedon käyttöönottoa, ja vertaisarviointi lis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tait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keskustel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oivat hyvin liittyä osana edellisi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ysymyksiä verkkotehtävist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vatko ajallisesti rajallisia? Arvioidaanko arvosano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tako yritystä sallitaan? Mitä jos yhteys katkeaa kes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sti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opettaja voi varmistua siitä, kuka testin tekee? Vilpp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täisikö verkkotenttien olla yksilö - vai ryhmätenttej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60720" y="3255840"/>
            <a:ext cx="560232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628200"/>
            <a:ext cx="845820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urssin lopulla tai lopussa raportointi (End-of-Activity Repor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98396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n tekemien kysymyksen avulla oppiminen vahvistu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et väärinkäsitykset paljastuvat, oppijaa ohj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opettaja saa tietoa kur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ittämistä va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kset voisivat olla esim. 1) Mitkä kolme asiaa tai oivall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t tällä kurssilla? 2) Mitkä kohdat tai käsitteet jäivät epäselvä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i olivat vaikeimpia? ja 3) Jos itse olisit kysymässä täh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in liittyvää oppimista niin mitä kysyisit? 4) Miten ryhmä t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tasi? 5) Miten toimit ryhmässä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0360" y="612720"/>
            <a:ext cx="8853480" cy="69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äsitetest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ysytään keskeisiä alan käsittei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monivalintakysymyksiä, joissa vain yksi on oike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 muut vastausvaihtoehdot ”sekoittav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tehdä monessa eri aikapisteess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taa tietoa opiskelijoiden ymmärryksestä, ohjaa suuntaa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uhtia kurssin etenemisessä ja kannustaa oppijo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reflekt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min sanoin kertomin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lyhy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a pyydetään esim. sähköpostitse vetämään yhte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n keskeinen asia kahdella-kolmella lauseell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vainsanoja käyttä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lle nopea tarkistaa, opettaa oppijalle tiivistämistä j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timen löy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ullinen tentt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ideoneuvotteluna, esim. connect pr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to vuorovaikutustila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daan toteuttaa myös ryhmätenttinä, jolloin oppimis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siaalinen luonne korostu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5580000"/>
            <a:ext cx="88520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15.5.2009 Seija Kaak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20720" y="665280"/>
            <a:ext cx="8458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 verkko-opetuksess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303640" y="2195640"/>
            <a:ext cx="5040000" cy="3419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119640" y="2340000"/>
            <a:ext cx="3600720" cy="287964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miellekartat, käsitekartat, SW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65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llekartta perustuu vapaaseen assosiaatioon 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uttaa hahmottamaan jonkin kokonaisuu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sa-alueita ja suhte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likkaa seuraavaa osoitetta miellekartan sovelluksiin verkos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indjet.com/products/overview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Käsitekartan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tavoitteena on johonkin käsitteeseen liittyvien merkitysten 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hteiden selvittäminen graafisesti. Se on hierarkkisesti jäsennelty, ja sii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 olla yhdistäviä san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9040" y="143964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OT-analyysissä opiskelija kirjaa ensin vahvuudet (strength), heikko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weakness), mahdollisuudet (opportunity) ja uhat (threat). Tämän jälkeen v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ttiä kuinka tulevaisuudessa tulisi toimia, jotta vahvuudet entisest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anisivat, kuinka heikkouksia voisi kehittää, miten mahdollisuuksista tehd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tta ja miten uhkia voi torj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97200" y="320976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495000"/>
            <a:ext cx="8817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Itseopiskelussa hyödynnettävä Hot potatoes ohjel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6880" y="1591920"/>
            <a:ext cx="885204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ww-sivuille tai oppimisympäristöjen osaksi voi tehdä itseopiskeluun sop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tehtäviä (monivalinta, aukkoharjoitus, yhdistely, ristisanatehtävä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otka  opiskelija itse myös tarkistaa. Harjoitusten tulos ei tallennu mihinkää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ikä opettaja saa sitä nähtäväk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 tehdään ja muokataan  Hot Potatoes -ohjelmalla, ja tallenn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tten html- muotoon www-sivuille siirtämistä v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on ilmainen, mikäli ohjelmalla tuotettu materiaali laitetaan verk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en  vapaasti saatav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ladataan omalle koneelle osoitteesta: </a:t>
            </a: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eb.uvic.ca/hrd/halfbake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4582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 lopuksi: mitä on hyvä arvioint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60360" y="1485720"/>
            <a:ext cx="80992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sko Karjalaisen (2001) mukaan se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ännöllistä, ei vain lopussa tapah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nipuolista, monimetod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tenttisia ja innostavia oppimistehtäviä sisältävä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iskelijakeskeistä –sisällytä itse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mista ohjaa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jan itseohjautuvuutta ja itsearvioin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ykyjen kehittymistä tuke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eihin perus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it läpinäkyviä, tarkoituksenmukaisia, realistisia, erottelukykyisiä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ikeudenmuka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aukaista arviointikriteerit heti kurssin aluss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laadukkaan, rakentavan ja viivyttelemättömän palautteen su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rkitys oppimis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isällytä arviointiin vuorovaikut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e kohderyhmäanalyysi (lähtötiedot, resurssit, taido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esti teknisten asioiden toimivuus varmistettava verkkoarvioinni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 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8280360" y="1440000"/>
            <a:ext cx="1440000" cy="14396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9640" y="2879640"/>
            <a:ext cx="3816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Taustalla soi ääninäyte elokuvasta ”Lost in translation”.  Musiikkihan tunnetusti edistää oppimist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704000" y="1763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65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14724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tku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20360" y="72072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on oppijan kannalta oppimista edistävää ja ”reilua”, mikäli arvioin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ttyy autenttisiin tehtäv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tuu kohtuullisiin vaatimuks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ohkaisee opiskelijoita soveltamaan omaa tieto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htaa pitkäaikaisiin hyötyi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aitoa yritystä, enemmän kuin ”tuuri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oppimisen syvyyttä ja laajuut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distää oppijan itsenäisyyttä antamalla selkeät kriteerit odotuks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taa riittävästi palautetta opiskelijan kehitykse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skittyy monimutkaisten taitojen ja ominaisuuksien arvioint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85928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360" y="360360"/>
            <a:ext cx="8456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ekijänoikeudet verkko-opetukse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600" y="1722240"/>
            <a:ext cx="8852040" cy="47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 edellyttää, että jokais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n rahoittamassa virtuaal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-opetushankkeessa huolehdi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itä, että aineistojen tekijöiden kan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itaan verkko-opetuksen aineis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tamisesta ja käyttöoikeuks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tavassa laajuude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kijänoikeuk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ccccff"/>
                </a:solidFill>
                <a:latin typeface="Arial"/>
              </a:rPr>
              <a:t>virtuaaliyliopiston linkist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32400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ähteet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20720" y="1186920"/>
            <a:ext cx="88502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olma, J. 2007. Sähköinen tenttipalvelu Tampereen yliopisto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rjalainen, A. 2001. Tentin te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äkinen, P., 2001. Verkkotutor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www.uta.fi/tyt/verkkotutor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ikko, A. 2000. Portfolio oppimisen avartajana. Tampere: Tammer-Paino 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Wulff, A. 2004. Oppimisen arviointi verkossa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koti.mbnet.fi/wulff/arviointi_080304_files/v3_documen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uut link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yleista_arv_menetelmis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kasitekohjee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openetti.aokk.hamk.fi/ntm20017portfol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palvelut/iqfor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vy_tietovarantoja_tekijanoikeudet_alku_fin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caacentre.ac.uk/resources/objective_test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tievie.oulu.fi/arvioinnin_abc/caset/tenttiakvaar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mindjet.com/products/overview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eb.uvic.ca/hrd/halfbake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9040" y="161892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ti antaa tilannekuvausta siitä, missä ollaan, minne mennään ja millä tavalla kannattaa edetä. Arviointi on erottamaton osa oppimisprose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00360" y="295920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080" y="86796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442520"/>
            <a:ext cx="8853480" cy="63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nilla on mm. seuraavia tehtäviä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1. Totea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. Ohja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3. Valik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4. Motiv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5. Kontrol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6. Keh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ue lisää arvioinnista </a:t>
            </a:r>
            <a:r>
              <a:rPr b="0" lang="fi-FI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erkkotutorin sivuilta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20720" y="1665360"/>
            <a:ext cx="796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ikkaiden poikkipuut eivät ole lepäämistä varten, vaan siksi, että toinen jalka saa tukea kun toinen siirtyy ylemmäs. </a:t>
            </a:r>
            <a:br>
              <a:rPr sz="1800"/>
            </a:b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Thomas Huxley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36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rkko-opetuksen arvioin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091880"/>
            <a:ext cx="8853480" cy="64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usia työkaluja: monimetodisuus, vuorovaikutteisuuden lisäänty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tsearviointi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-oppimispäiväkirja, e-portfol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”tsekkaa tietosi” testejä, webbikyselyj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foorumi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 – oppija(t) tai oppija - oppija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tyinen / julkinen keskust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oksen työstämisen työkalut: yhteiset ”pajat”, webbisiv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uhistorian seuraaminen mahdollista: prosessiarviointi mahdollista. Tälläinen työkalu on esim. mietintämyssy,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ue lisä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eiden ja eleiden puuttuminen ja asynkronisuus vaikeuttaa arvi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keinoja verko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20360" y="1857240"/>
            <a:ext cx="88534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. Asenn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2. E-Portfolio (oppijan oppimistehtävien kokoelma verkoss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3. E-Oppimispäiväkir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4. Elektroniset 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5. Kirjallinen kuulustel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6. Kirjalliset tehtävät (esseet, raportit/näyttökoe, muistiot, tutkielmat, keskustelu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7. Käsit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8. Omin sanoin kertominen lyhye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9. Osaamisanalyysit (miellekartat, käsitekartat, SWOT-analyys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0. Suullinen tentti (videoneuvottelu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ue lisää arviointimenetelmistä </a:t>
            </a:r>
            <a:r>
              <a:rPr b="0" lang="fi-FI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Portfoli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oppijan oppimistehtävien kokoelma verko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sisältää tekstiä, kuvia, videoklippejä, ääntä ja animaatio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eskusteluryhmän liittäminen kunkin työn yhteyt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iskelijakeske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 perustuu erilaisuuden hyväksymis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riteereistä yhdessä sopiminen erityisen tärkeä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näyteportfolioon liitettävä itsearviointi ja tulevaisuusnäkym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hyvä liittää arviointiin myös vertaisarv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ortfolion kerääminen lisää metakognitiivisia ja itsearvioinnin taitoja “Digital portfolios make learning and working even more visible and sharable and their evaluation more reflective, interactive and negotiable” Linnakylä Pirjo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ortfoliotyöskentelystä arvioinniss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20720" y="456228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 1. Portfoliotyöskentelyn keskeiset alueet (Niikko 2000, mukail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201760" y="1440000"/>
            <a:ext cx="499752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Oppimispäiväkir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280" y="1279440"/>
            <a:ext cx="88534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n pitämä vapaamuotoinen päiväkirja oppimisesta. 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hjalta opiskelija tekee yhteenvedon hänelle tärk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kokemuksista; kehitt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jattelua ja tekstintuottamisvalmiuk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työkaluja löyd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avasta linkistä: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Q-Form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119640" y="234000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0:40:21Z</dcterms:created>
  <dc:creator>Seija Kaakinen</dc:creator>
  <dc:description/>
  <dc:language>en-US</dc:language>
  <cp:lastModifiedBy>Administrator</cp:lastModifiedBy>
  <dcterms:modified xsi:type="dcterms:W3CDTF">2010-03-31T11:48:17Z</dcterms:modified>
  <cp:revision>17</cp:revision>
  <dc:subject/>
  <dc:title> </dc:title>
</cp:coreProperties>
</file>