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700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4CE886-B201-4B99-8C5C-9FD632C44BD9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3C0854-586E-430A-A530-4253B5A2FCF5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902DCD-0542-48AD-9C47-1613BA79BEFC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2DA2E3-8AFF-4442-A260-62AA053BD566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F05E05-0C53-45B8-987F-D63579E8DED7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5AD575-A168-4C5A-9D74-483BA0837DD3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B11F45-FB4C-4E6D-B725-443CCA888B9F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D76EEE-52B3-47FC-A2AB-6AD504F05DCB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B610FE-3FB5-4F9D-838F-5D9E7D2E9F00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0B3F64-2F47-4A40-AE92-FDFDA06A4566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E011DB-C83D-4C00-BC32-07588168DB6A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9FEDF0-ECFE-4C66-A2C2-7FBEF63F8050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F26417-9D37-4C55-8005-F3F718B5DB2E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"/>
          <p:cNvSpPr/>
          <p:nvPr/>
        </p:nvSpPr>
        <p:spPr>
          <a:xfrm>
            <a:off x="1106640" y="812880"/>
            <a:ext cx="5341680" cy="400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8ACCA3-FA67-4752-B530-F9E0AA62FAB4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B9BCF3-77E5-4831-9180-29DCECBD16E0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1"/>
          <p:cNvSpPr/>
          <p:nvPr/>
        </p:nvSpPr>
        <p:spPr>
          <a:xfrm>
            <a:off x="1106640" y="812880"/>
            <a:ext cx="5340240" cy="400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B3C4CA-8EC6-43AC-9948-B50BF61312FD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1"/>
          <p:cNvSpPr/>
          <p:nvPr/>
        </p:nvSpPr>
        <p:spPr>
          <a:xfrm>
            <a:off x="1106640" y="812880"/>
            <a:ext cx="5341680" cy="400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1149C6-E2BF-443C-AB1D-A505D7DDD920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BC29C4-0821-440C-910D-C8A884483589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850A67-ABFD-4AC8-9E97-C15E6EAB2B47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1"/>
          <p:cNvSpPr/>
          <p:nvPr/>
        </p:nvSpPr>
        <p:spPr>
          <a:xfrm>
            <a:off x="1106640" y="812880"/>
            <a:ext cx="5341680" cy="400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808AB8-F61C-4EA5-8C7B-5230CFD9D2F6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"/>
          <p:cNvSpPr/>
          <p:nvPr/>
        </p:nvSpPr>
        <p:spPr>
          <a:xfrm>
            <a:off x="1106640" y="812880"/>
            <a:ext cx="5340240" cy="400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0E9675-4423-42A5-80DD-740960CE09EB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"/>
          <p:cNvSpPr/>
          <p:nvPr/>
        </p:nvSpPr>
        <p:spPr>
          <a:xfrm>
            <a:off x="1106640" y="812880"/>
            <a:ext cx="5340240" cy="400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634F41-0D99-493A-A630-518D6DE87844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C923E0-0D15-4C4F-B5F6-68DE3805FCC5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1A0F25-5561-494B-A916-858A5108F6AF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8D2C39-4F4E-4646-8747-B352B07BFD90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2F132B-357A-4230-848B-50514E56647A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1"/>
          <p:cNvSpPr/>
          <p:nvPr/>
        </p:nvSpPr>
        <p:spPr>
          <a:xfrm>
            <a:off x="1106640" y="812880"/>
            <a:ext cx="5340240" cy="400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EBAB9A-6450-4CC4-BE27-755665E07C8A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C7D4-80BB-4D8F-B382-E9C39AA3C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1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360" y="1949400"/>
            <a:ext cx="88470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360" y="3936240"/>
            <a:ext cx="88470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4E99-40E7-4135-AB52-FFFB8B4DC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1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360" y="1949400"/>
            <a:ext cx="431712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3840" y="1949400"/>
            <a:ext cx="431712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360" y="3936240"/>
            <a:ext cx="431712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3840" y="3936240"/>
            <a:ext cx="431712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EF18-CDD2-46BB-8FE6-F5C6AAB45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1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360" y="1949400"/>
            <a:ext cx="284832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1600" y="1949400"/>
            <a:ext cx="284832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02480" y="1949400"/>
            <a:ext cx="284832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360" y="3936240"/>
            <a:ext cx="284832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1600" y="3936240"/>
            <a:ext cx="284832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02480" y="3936240"/>
            <a:ext cx="284832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C553-B495-4BB3-8EC7-1E68DD47B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1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360" y="1949400"/>
            <a:ext cx="884700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A256-BF58-4425-BE8B-4BE8E34E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1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360" y="1949400"/>
            <a:ext cx="884700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ADEB-AC9F-4353-899E-6C54C317F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1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360" y="1949400"/>
            <a:ext cx="431712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3840" y="1949400"/>
            <a:ext cx="431712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C01B-4F94-4174-A1AE-4C5A24320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1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D7DE-0583-44D6-A6F6-0C21052D0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0360" y="684360"/>
            <a:ext cx="845172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6632-E9D2-40D5-BEF0-1319E0496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1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360" y="1949400"/>
            <a:ext cx="431712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3840" y="1949400"/>
            <a:ext cx="431712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360" y="3936240"/>
            <a:ext cx="431712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21CE-78C0-4E80-B445-5958FE9A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1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360" y="1949400"/>
            <a:ext cx="431712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3840" y="1949400"/>
            <a:ext cx="431712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3840" y="3936240"/>
            <a:ext cx="431712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79E0-3811-4588-8F66-F6784810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1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360" y="1949400"/>
            <a:ext cx="431712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3840" y="1949400"/>
            <a:ext cx="431712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360" y="3936240"/>
            <a:ext cx="8847000" cy="181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5658-7B9F-457F-AE0D-1897354B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1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0360" y="1949400"/>
            <a:ext cx="884700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8000"/>
          </a:bodyPr>
          <a:p>
            <a:pPr marL="3016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640" y="6318360"/>
            <a:ext cx="234000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66640" y="6346800"/>
            <a:ext cx="318780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31000" y="6346800"/>
            <a:ext cx="234000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2CA0F78-082E-47F4-A33D-B60A3299D146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qform.edu.helsinki.fi/iqform2/start.php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caacentre.ac.uk/resources/objective_tests/index.s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tievie.oulu.fi/arvioinnin_abc/caset/tenttiakvaario.htm" TargetMode="External"/><Relationship Id="rId2" Type="http://schemas.openxmlformats.org/officeDocument/2006/relationships/hyperlink" Target="http://www.uta.fi/tyt/avoin/moodlestamoneksi/Sahkoinen_tenttipalvelu_TaYssa.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mindjet.com/products/overview.aspx" TargetMode="External"/><Relationship Id="rId2" Type="http://schemas.openxmlformats.org/officeDocument/2006/relationships/hyperlink" Target="http://www.joensuu.fi/isvy/arviointimateriaali/kasitekohjeet.html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eb.uvic.ca/hrd/halfbaked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uta.fi/tyt/verkkotutor/arviointi.h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uta.fi/tyt/verkkotutor/myssyohjeet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joensuu.fi/isvy/arviointimateriaali/yleista_arv_menetelmista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openetti.aokk.hamk.fi/ntm2001/portfolio.h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qform.edu.helsinki.fi/iqform2/start.php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20360" y="1934640"/>
            <a:ext cx="8853480" cy="3838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720720" y="1994040"/>
            <a:ext cx="885348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Seija Kaaki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Verkko-opetus 4 op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20360" y="728280"/>
            <a:ext cx="8458200" cy="9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Elektroniset testit - Itsearviointitestit</a:t>
            </a: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 (Quizze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720360" y="1979640"/>
            <a:ext cx="8853480" cy="37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oveltuvat hyvin mm. lähtötietotason arviointi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pettaja </a:t>
            </a:r>
            <a:r>
              <a:rPr b="0" i="1" lang="fi-FI" sz="2400" spc="-1" strike="noStrike">
                <a:solidFill>
                  <a:srgbClr val="000000"/>
                </a:solidFill>
                <a:latin typeface="Arial"/>
              </a:rPr>
              <a:t>EI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rvio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atso oheisesta linkistä oppimistyylin arviointiin kehitetty </a:t>
            </a:r>
            <a:r>
              <a:rPr b="0" lang="fi-FI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oma työkalu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20360" y="598320"/>
            <a:ext cx="8458200" cy="11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Arial"/>
              </a:rPr>
              <a:t>Opettajalle palautuvat elektroniset testit: kvantitatiiviset (objektiiviset) ja kvalitatiiviset (subjektiiviset) test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720360" y="1800360"/>
            <a:ext cx="8853480" cy="37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vantitatiivisia testejä ovat testit, joiden kysymyksiin on olemas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ietty määriteltävissä oleva vasta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valitatiivisissa testeissä oikeita vastauksia voi olla use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2160720" y="34196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20360" y="728280"/>
            <a:ext cx="8458200" cy="9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Kvantitatiiviset testit arvioinnis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674720"/>
            <a:ext cx="8853480" cy="53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Kyseessä ”kysymys-vastaus” -tyyppi, jossa oikea vastaus on määritettävissä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1.Monivalintakysymykset (Multiple Choice Questions ja Multiple Response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Ques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A) Runko, B) häiritsevät/väärät ja C) oikeat vastauks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hyvä runko on yksinkertainen, yksiselitteinen, vähän negaatioita, ei sanoja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”aina” tai ”ei koskaan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vastauksissa älä anna vinkkejä, väärienkin vastausten pitäisi olla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mahdollis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2.Oikein-väärin –väittämä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3.Yhdistelytehtävät (laita enemmän ”vastauksia” kuin ”kysymyksiä”, salli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useampi oikea ”vastaus”/”kysymys”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4.Järjestävät kysymyk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5.Kuvasta kohteen tai paikan tunnistaminen (Graphical Hotspot tai Image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Labell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6.Lyhyen numeraalisen tai verbaalisen vastauksen antaminen (”tyhjät aukot”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esim. kielissä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20360" y="728280"/>
            <a:ext cx="8458200" cy="9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Kvantitatiiviset test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20360" y="2101680"/>
            <a:ext cx="88534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astaukset nopeita tarkastaa, koska kone voi sen tehdä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Yleensä myös nopeita vastata, joten kysymyksillä voidaan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attaa laaja materiaal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Tilastolliset analyysit opiskelijoiden taidoista helppo kartoitta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Kysymyksiin voidaan sisällyttää automaattista palautetta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(vihjeitä, ohjeistusta, pisteyty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Sopivat faktatiedon kontrollointiin ja itsearviointiin, ei helposti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rgumentaatiota vaativaan arviointi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Ongelmana myös arvaamisen mahdollisuus ja autentikoin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ue lisää testeistä </a:t>
            </a:r>
            <a:r>
              <a:rPr b="0" lang="fi-FI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tästä linkist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20360" y="507600"/>
            <a:ext cx="8458200" cy="9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Kvalitatiiviset (subjektiiviset) test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20360" y="1439640"/>
            <a:ext cx="885348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Ei yhtä ainoaa oikeaa vastaus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Arviointia ei voi automatisoi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Aikaa vieviä tarkasta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Antavat laadullisen kuvan opiskelijan oppimises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Esim. esseet, raportit, tiivistelmät, 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2496960" y="3301920"/>
            <a:ext cx="5423040" cy="35370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0360" y="728280"/>
            <a:ext cx="8458200" cy="9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Kirjallinen kuulustelu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20360" y="1844280"/>
            <a:ext cx="885348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erinteinen kirjallinen tentti, mutta suorituspaikkana tietoverkk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ika ja paikka vapaammin valittavis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Tenttiakvaario on tietokantapohjainen sovellus, joka on suunniteltu erityisesti yliopistojen yleis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tenttipäivien täydentäjäksi. Sen avulla opiskelija voi tenttiä kurssit itselleen parhaiten sopiva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ajankohtana. Kuulusteluun vastaaminen tapahtuu valvotussa tilassa. Myös opettajan ty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helpottuu, sillä Tenttiakvaario perustaa kunkin tenttitilaisuuden automaattisesti. Opettaja määrittä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vain ohjeet tentin muodostamista varten sekä tallentaa ennakolta 20-50 kysymystä tietokanta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Ainoaksi tehtäväksi jää tentin arvostelu, joka sekin tapahtuu tietokoneen avulla – il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käsialaongelmia. Lue lisää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Tenttiakvaario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oodle-järjestelmän sähköisen tentin informaatiota löydät  </a:t>
            </a:r>
            <a:r>
              <a:rPr b="0" lang="fi-FI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tästä linkist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20360" y="728280"/>
            <a:ext cx="8458200" cy="9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Kirjalliset tehtävä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20360" y="1644120"/>
            <a:ext cx="8853480" cy="44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Esseet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(käytä mielenkiintoisia ja autenttisia aiheit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Yksilö- tai ryhmätyönä (myös arviointi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Prosessointia voi tehdä omassa tahdissa + (a)synkronise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erkossa, verkko mahdollistaa hyvin laadullisen ja dialogi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rvioinnin ja vertaisarvioinn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Harjoitustyöraportit/näyttöko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Opettaja antaa tehtävän, oppija tekee sen ja raportoi verkoss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rviointi vertaisarviona ja opettaja-arviointi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Vahvistaa uuden tiedon käyttöönottoa, ja vertaisarviointi lisä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rviointitaito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Verkkokeskustelut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(voivat hyvin liittyä osana edellisii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280" y="360000"/>
            <a:ext cx="8458200" cy="9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Kysymyksiä verkkotehtävist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20360" y="1260360"/>
            <a:ext cx="8853480" cy="37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vatko ajallisesti rajallisia? Arvioidaanko arvosanoi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ontako yritystä sallitaan? Mitä jos yhteys katkeaa kes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estin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iten opettaja voi varmistua siitä, kuka testin tekee? Vilppi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itäisikö verkkotenttien olla yksilö - vai ryhmätenttejä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2160720" y="3255840"/>
            <a:ext cx="5602320" cy="35845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0360" y="628200"/>
            <a:ext cx="845820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Kurssin lopulla tai lopussa raportointi (End-of-Activity Report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720360" y="1983960"/>
            <a:ext cx="885348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pettajan tekemien kysymyksen avulla oppiminen vahvistu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ahdolliset väärinkäsitykset paljastuvat, oppijaa ohjata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etakognitiivisiin prosesseihin ja opettaja saa tietoa kurs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ehittämistä vart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ysymykset voisivat olla esim. 1) Mitkä kolme asiaa tai oivallu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pit tällä kurssilla? 2) Mitkä kohdat tai käsitteet jäivät epäselväk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ai olivat vaikeimpia? ja 3) Jos itse olisit kysymässä tähä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urssiin liittyvää oppimista niin mitä kysyisit? 4) Miten ryhmä tu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ppimistasi? 5) Miten toimit ryhmässä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720360" y="612720"/>
            <a:ext cx="8853480" cy="69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Käsitetestit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: kysytään keskeisiä alan käsitteitä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sim. monivalintakysymyksiä, joissa vain yksi on oikea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astaus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ja muut vastausvaihtoehdot ”sekoittavia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oi tehdä monessa eri aikapisteessä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ntaa tietoa opiskelijoiden ymmärryksestä, ohjaa suuntaa 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auhtia kurssin etenemisessä ja kannustaa oppijo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etakognitiivisiin prosesseihin ja reflekti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Omin sanoin kertominen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lyhyes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piskelijaa pyydetään esim. sähköpostitse vetämään yhteen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urssin keskeinen asia kahdella-kolmella lauseella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vainsanoja käyttä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pettajalle nopea tarkistaa, opettaa oppijalle tiivistämistä ja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ytimen löytämist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Suullinen tentti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(videoneuvotteluna, esim. connect pro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ito vuorovaikutustilan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oidaan toteuttaa myös ryhmätenttinä, jolloin oppimisen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osiaalinen luonne korostuu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9280" y="5580000"/>
            <a:ext cx="885204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15.5.2009 Seija Kaaki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720720" y="665280"/>
            <a:ext cx="84582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Arviointi verkko-opetuksess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2303640" y="2195640"/>
            <a:ext cx="5040000" cy="341928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4"/>
          <p:cNvSpPr/>
          <p:nvPr/>
        </p:nvSpPr>
        <p:spPr>
          <a:xfrm>
            <a:off x="6119640" y="2340000"/>
            <a:ext cx="3600720" cy="2879640"/>
          </a:xfrm>
          <a:prstGeom prst="roundRect">
            <a:avLst>
              <a:gd name="adj" fmla="val 5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Arial"/>
              </a:rPr>
              <a:t>Osaamisanalyysit</a:t>
            </a: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(miellekartat, käsitekartat, SWOT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720360" y="1260360"/>
            <a:ext cx="8853480" cy="65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Miellekartta perustuu vapaaseen assosiaatioon j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auttaa hahmottamaan jonkin kokonaisuud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osa-alueita ja suhtei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Klikkaa seuraavaa osoitetta miellekartan sovelluksiin verkoss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mindjet.com/products/overview.asp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Käsitekartan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tavoitteena on johonkin käsitteeseen liittyvien merkitysten 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suhteiden selvittäminen graafisesti. Se on hierarkkisesti jäsennelty, ja siin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voi olla yhdistäviä sano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3"/>
          <a:stretch/>
        </p:blipFill>
        <p:spPr>
          <a:xfrm>
            <a:off x="7020000" y="1619280"/>
            <a:ext cx="2160360" cy="17892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0720" y="720720"/>
            <a:ext cx="84549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Osaamisanalyys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9040" y="1439640"/>
            <a:ext cx="8850240" cy="37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SWOT-analyysissä opiskelija kirjaa ensin vahvuudet (strength), heikkoud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(weakness), mahdollisuudet (opportunity) ja uhat (threat). Tämän jälkeen vo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miettiä kuinka tulevaisuudessa tulisi toimia, jotta vahvuudet entisestää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paranisivat, kuinka heikkouksia voisi kehittää, miten mahdollisuuksista tehd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otta ja miten uhkia voi torju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2797200" y="3209760"/>
            <a:ext cx="4762440" cy="38102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20720" y="495000"/>
            <a:ext cx="8817120" cy="10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Itseopiskelussa hyödynnettävä Hot potatoes ohjelm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6880" y="1591920"/>
            <a:ext cx="8852040" cy="56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www-sivuille tai oppimisympäristöjen osaksi voi tehdä itseopiskeluun sopiv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harjoitustehtäviä (monivalinta, aukkoharjoitus, yhdistely, ristisanatehtävä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jotka  opiskelija itse myös tarkistaa. Harjoitusten tulos ei tallennu mihinkää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eikä opettaja saa sitä nähtäväkse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Harjoitus tehdään ja muokataan  Hot Potatoes -ohjelmalla, ja tallenneta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sitten html- muotoon www-sivuille siirtämistä var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Ohjelma on ilmainen, mikäli ohjelmalla tuotettu materiaali laitetaan verkko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kaikkien  vapaasti saatavil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Ohjelma ladataan omalle koneelle osoitteesta: </a:t>
            </a:r>
            <a:r>
              <a:rPr b="0" lang="fi-FI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eb.uvic.ca/hrd/halfbaked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8458200" cy="10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Ja lopuksi: mitä on hyvä arviointi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60360" y="1485720"/>
            <a:ext cx="809928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36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Asko Karjalaisen (2001) mukaan se 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Säännöllistä, ei vain lopussa tapahtuva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onipuolista, monimetodis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Autenttisia ja innostavia oppimistehtäviä sisältävää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Opiskelijakeskeistä –sisällytä itsearviointia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Oppimista ohjaava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Oppijan itseohjautuvuutta ja itsearviointi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kykyjen kehittymistä tukeva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Kriteereihin perustuva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Kriteerit läpinäkyviä, tarkoituksenmukaisia, realistisia, erottelukykyisiä 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oikeudenmukais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uista aukaista arviointikriteerit heti kurssin alussa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uista laadukkaan, rakentavan ja viivyttelemättömän palautteen su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erkitys oppimisel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Sisällytä arviointiin vuorovaikutus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Tee kohderyhmäanalyysi (lähtötiedot, resurssit, taido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Erityisesti teknisten asioiden toimivuus varmistettava verkkoarvioinnis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Arvioi arviointia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36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3"/>
          <p:cNvSpPr/>
          <p:nvPr/>
        </p:nvSpPr>
        <p:spPr>
          <a:xfrm>
            <a:off x="8280360" y="1440000"/>
            <a:ext cx="1440000" cy="1439640"/>
          </a:xfrm>
          <a:prstGeom prst="roundRect">
            <a:avLst>
              <a:gd name="adj" fmla="val 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6119640" y="2879640"/>
            <a:ext cx="38163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i-FI" sz="1800" spc="-1" strike="noStrike">
                <a:solidFill>
                  <a:srgbClr val="000000"/>
                </a:solidFill>
                <a:latin typeface="Arial"/>
              </a:rPr>
              <a:t>Taustalla soi ääninäyte elokuvasta ”Lost in translation”.  Musiikkihan tunnetusti edistää oppimista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7704000" y="17636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3656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20360" y="147240"/>
            <a:ext cx="8458200" cy="9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jatkuu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720360" y="720720"/>
            <a:ext cx="8853480" cy="37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2560" indent="0">
              <a:lnSpc>
                <a:spcPct val="93000"/>
              </a:lnSpc>
              <a:buNone/>
              <a:tabLst>
                <a:tab algn="l" pos="0"/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93000"/>
              </a:lnSpc>
              <a:buNone/>
              <a:tabLst>
                <a:tab algn="l" pos="0"/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93000"/>
              </a:lnSpc>
              <a:buNone/>
              <a:tabLst>
                <a:tab algn="l" pos="0"/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Arviointi on oppijan kannalta oppimista edistävää ja ”reilua”, mikäli arviointi.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liittyy autenttisiin tehtävi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perustuu kohtuullisiin vaatimuksi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rohkaisee opiskelijoita soveltamaan omaa tietoa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htaa pitkäaikaisiin hyötyih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palkitsee aitoa yritystä, enemmän kuin ”tuuria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palkitsee oppimisen syvyyttä ja laajuut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edistää oppijan itsenäisyyttä antamalla selkeät kriteerit odotuksis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antaa riittävästi palautetta opiskelijan kehityksestä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keskittyy monimutkaisten taitojen ja ominaisuuksien arviointi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93000"/>
              </a:lnSpc>
              <a:buNone/>
              <a:tabLst>
                <a:tab algn="l" pos="0"/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93000"/>
              </a:lnSpc>
              <a:buNone/>
              <a:tabLst>
                <a:tab algn="l" pos="0"/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2700360" y="3959280"/>
            <a:ext cx="4859280" cy="34192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20360" y="360360"/>
            <a:ext cx="84567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Tekijänoikeudet verkko-opetukses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507600" y="1722240"/>
            <a:ext cx="8852040" cy="47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petusministeriö edellyttää, että jokaises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petusministeriön rahoittamassa virtuaali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erkko-opetushankkeessa huolehdita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iitä, että aineistojen tekijöiden kans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ovitaan verkko-opetuksen aineist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uottamisesta ja käyttöoikeuksis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arvittavassa laajuudess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ue lisää tekijänoikeuks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ccccff"/>
                </a:solidFill>
                <a:latin typeface="Arial"/>
              </a:rPr>
              <a:t>virtuaaliyliopiston linkistä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19280" y="324000"/>
            <a:ext cx="84549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Lähteet</a:t>
            </a: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720720" y="1186920"/>
            <a:ext cx="88502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Holma, J. 2007. Sähköinen tenttipalvelu Tampereen yliopistoss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Karjalainen, A. 2001. Tentin teori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Mäkinen, P., 2001. Verkkotutor. </a:t>
            </a:r>
            <a:r>
              <a:rPr b="0" lang="fi-FI" sz="1400" spc="-1" strike="noStrike">
                <a:solidFill>
                  <a:srgbClr val="ccccff"/>
                </a:solidFill>
                <a:latin typeface="Arial"/>
              </a:rPr>
              <a:t>http://www.uta.fi/tyt/verkkotutor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Niikko, A. 2000. Portfolio oppimisen avartajana. Tampere: Tammer-Paino O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Wulff, A. 2004. Oppimisen arviointi verkossa. </a:t>
            </a:r>
            <a:r>
              <a:rPr b="0" lang="fi-FI" sz="1400" spc="-1" strike="noStrike">
                <a:solidFill>
                  <a:srgbClr val="ccccff"/>
                </a:solidFill>
                <a:latin typeface="Arial"/>
              </a:rPr>
              <a:t>http://koti.mbnet.fi/wulff/arviointi_080304_files/v3_document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Muut link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http://www.joensuu.fi/isvy/arviointimateriaali/yleista_arv_menetelmista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http://www.joensuu.fi/isvy/arviointimateriaali/kasitekohjeet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http:/openetti.aokk.hamk.fi/ntm20017portfolio.ht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http://virtuaaliyliopisto.fi/palvelut/iqform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http://virtuaaliyliopisto.fi/vy_tietovarantoja_tekijanoikeudet_alku_fin.a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http:/caacentre.ac.uk/resources/objective_tests/index.s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http://tievie.oulu.fi/arvioinnin_abc/caset/tenttiakvaario.ht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http://www.mindjet.com/products/overview.asp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http://web.uvic.ca/hrd/halfbaked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20720" y="728640"/>
            <a:ext cx="84549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Miksi arviointi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9040" y="1618920"/>
            <a:ext cx="8850240" cy="37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Arviointi antaa tilannekuvausta siitä, missä ollaan, minne mennään ja millä tavalla kannattaa edetä. Arviointi on erottamaton osa oppimisprosess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1800360" y="2959200"/>
            <a:ext cx="6350040" cy="42418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41080" y="867960"/>
            <a:ext cx="8458200" cy="9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Miksi arviointia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440" y="1442520"/>
            <a:ext cx="8853480" cy="63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Arvioinnilla on mm. seuraavia tehtäviä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1. Toteami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2. Ohja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3. Valikoi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4. Motivoi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5. Kontroll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6. Kehit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Lue lisää arvioinnista </a:t>
            </a:r>
            <a:r>
              <a:rPr b="0" lang="fi-FI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verkkotutorin sivuilta</a:t>
            </a: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720720" y="1665360"/>
            <a:ext cx="7964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i-FI" sz="1800" spc="-1" strike="noStrike">
                <a:solidFill>
                  <a:srgbClr val="000000"/>
                </a:solidFill>
                <a:latin typeface="Arial"/>
              </a:rPr>
              <a:t>Tikkaiden poikkipuut eivät ole lepäämistä varten, vaan siksi, että toinen jalka saa tukea kun toinen siirtyy ylemmäs. </a:t>
            </a:r>
            <a:br>
              <a:rPr sz="1800"/>
            </a:br>
            <a:r>
              <a:rPr b="0" i="1" lang="fi-FI" sz="1800" spc="-1" strike="noStrike">
                <a:solidFill>
                  <a:srgbClr val="000000"/>
                </a:solidFill>
                <a:latin typeface="Arial"/>
              </a:rPr>
              <a:t>(Thomas Huxley)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20360" y="360000"/>
            <a:ext cx="8458200" cy="9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Verkko-opetuksen arvioinni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440" y="1091880"/>
            <a:ext cx="8853480" cy="64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Uusia työkaluja: monimetodisuus, vuorovaikutteisuuden lisääntymin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Itsearviointi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-oppimispäiväkirja, e-portfoli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lektronisia ”tsekkaa tietosi” testejä, webbikyselyjä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eskustelufoorumi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pe – oppija(t) tai oppija - oppija(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yksityinen / julkinen keskustel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uotoksen työstämisen työkalut: yhteiset ”pajat”, webbisiv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piskeluhistorian seuraaminen mahdollista: prosessiarviointi mahdollista. Tälläinen työkalu on esim. mietintämyssy, </a:t>
            </a:r>
            <a:r>
              <a:rPr b="0" lang="fi-FI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lue lisää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Ilmeiden ja eleiden puuttuminen ja asynkronisuus vaikeuttaa arvioint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20360" y="728280"/>
            <a:ext cx="8458200" cy="9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Arviointikeinoja verkos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720360" y="1857240"/>
            <a:ext cx="885348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1. Asennetesti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2. E-Portfolio (oppijan oppimistehtävien kokoelma verkossa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3. E-Oppimispäiväkirj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4. Elektroniset testi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5. Kirjallinen kuulustelu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6. Kirjalliset tehtävät (esseet, raportit/näyttökoe, muistiot, tutkielmat, keskustelut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7. Käsitetesti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8. Omin sanoin kertominen lyhyest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9. Osaamisanalyysit (miellekartat, käsitekartat, SWOT-analyysi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10. Suullinen tentti (videoneuvottelun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Lue lisää arviointimenetelmistä </a:t>
            </a:r>
            <a:r>
              <a:rPr b="0" lang="fi-FI" sz="2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tästä linkistä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20360" y="728280"/>
            <a:ext cx="8458200" cy="9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E-Portfolio</a:t>
            </a: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 (oppijan oppimistehtävien kokoelma verkos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720360" y="1644120"/>
            <a:ext cx="8853480" cy="50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oi sisältää tekstiä, kuvia, videoklippejä, ääntä ja animaatioi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keskusteluryhmän liittäminen kunkin työn yhteyte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opiskelijakeskein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arviointi perustuu erilaisuuden hyväksymise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kriteereistä yhdessä sopiminen erityisen tärkeää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näyteportfolioon liitettävä itsearviointi ja tulevaisuusnäkymä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hyvä liittää arviointiin myös vertaisarvioin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- portfolion kerääminen lisää metakognitiivisia ja itsearvioinnin taitoja “Digital portfolios make learning and working even more visible and sharable and their evaluation more reflective, interactive and negotiable” Linnakylä Pirjo. 200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ue lisää </a:t>
            </a:r>
            <a:r>
              <a:rPr b="0" lang="fi-FI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portfoliotyöskentelystä arvioinnissa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20720" y="728640"/>
            <a:ext cx="84549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Portf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720720" y="4562280"/>
            <a:ext cx="8850240" cy="37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uva 1. Portfoliotyöskentelyn keskeiset alueet (Niikko 2000, mukaille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2201760" y="1440000"/>
            <a:ext cx="4997520" cy="37796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20360" y="728280"/>
            <a:ext cx="8458200" cy="9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E-Oppimispäiväkirj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539280" y="1279440"/>
            <a:ext cx="885348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piskelijan pitämä vapaamuotoinen päiväkirja oppimisesta. S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ohjalta opiskelija tekee yhteenvedon hänelle tärkeist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ppimiskokemuksista; kehittä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jattelua ja tekstintuottamisvalmiuks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lektronisia työkaluja löydä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euraavasta linkistä:  </a:t>
            </a:r>
            <a:r>
              <a:rPr b="0" lang="fi-FI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IQ-Form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6119640" y="2340000"/>
            <a:ext cx="3171960" cy="47624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10:40:21Z</dcterms:created>
  <dc:creator>Seija Kaakinen</dc:creator>
  <dc:description/>
  <dc:language>en-US</dc:language>
  <cp:lastModifiedBy>Administrator</cp:lastModifiedBy>
  <dcterms:modified xsi:type="dcterms:W3CDTF">2010-03-31T11:48:17Z</dcterms:modified>
  <cp:revision>17</cp:revision>
  <dc:subject/>
  <dc:title> </dc:title>
</cp:coreProperties>
</file>