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60C02-791A-4F04-80D0-6E13BC034EFC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114FA-FB9F-4D7D-90E3-9F5ECDAEA8E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EDD9E-842B-477E-8018-E134FC0EA932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14723-20E5-4C4C-BC6D-B0357AC4354F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BEBAC-CFA3-43DB-92BC-9BC22FFC5E1F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B23D5-2135-4D5D-8F51-AF94B011EDC4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2A7B5-4FCF-4459-9649-C90CC5CB65B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355F0-7111-4F16-954F-1B955CC8F18E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283A3-4D0C-4F9B-A9D8-383A269E1388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09640-0ED8-4C3E-AC6C-7FF5DE52700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B14D7-EE68-4E12-BC0D-09A015B5F2B2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B3532-29EF-4A5B-B359-422746A453D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CDF07-271B-47E0-BE76-61C6F7A11B37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A99E3-02EB-4870-82AD-EA6BC8AB939C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DC930-7AED-4C2F-9798-C0961B7043B3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59AB8-B9F6-4330-998D-9EEA0EEB792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7240C-8FC8-4553-B5D9-3C99EE8A05BD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891E6-E3B3-4940-9B1D-EEAAC29C84B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E360E-E20F-4F6A-A130-4B0B108627FD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CBE65-CD28-45DF-AC94-E9F3E868A4DF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46721-2D9F-499E-AEAE-99056636CBED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486D8-8150-4543-B386-6346C8EEA42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91F1E-9006-4D30-89F2-F6CEA96A24D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03ABD-D989-4242-8DCA-48E131E730C9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D8ECE-2C3A-4E14-B192-D13BC39ABEFF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D0DA4-DA2E-41BC-8E6E-EBF11F03A83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F4AF7-FEAA-48B5-B8FA-57DA6B8E37AD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96B-76A9-4D4C-98C3-C2C1DE8C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470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3936240"/>
            <a:ext cx="88470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4FB-FC29-43A2-A1E7-81086177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384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A72-53E7-4909-8145-CE7931E8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1600" y="194940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2480" y="194940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393624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1600" y="393624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2480" y="393624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215-232A-4142-95AF-2A752EE1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49400"/>
            <a:ext cx="884700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5CE-5EF6-49DA-983F-F41B5E4A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4700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32B6-59A0-4FEC-AF81-AB8281BA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9DF8-BD32-4916-92A2-17AEDC8D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D3B2-4BC2-4DE6-AFC5-58AFFFD4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684360"/>
            <a:ext cx="845172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BAB8-62CB-448A-9A69-86884F7E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CCB-5FFB-4F8C-BC2C-D06B8E7F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384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ACE-DFEB-4A81-94FC-483C81B1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3936240"/>
            <a:ext cx="88470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26FD-7E60-45C3-B8A5-0B1A8857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1949400"/>
            <a:ext cx="884700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640" y="631836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66640" y="634680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1000" y="634680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530183-C6EC-4109-B621-AA8B4C9609F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qform.edu.helsinki.fi/iqform2/start.ph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aacentre.ac.uk/resources/objective_tests/index.s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ievie.oulu.fi/arvioinnin_abc/caset/tenttiakvaario.htm" TargetMode="External"/><Relationship Id="rId2" Type="http://schemas.openxmlformats.org/officeDocument/2006/relationships/hyperlink" Target="http://www.uta.fi/tyt/avoin/moodlestamoneksi/Sahkoinen_tenttipalvelu_TaYssa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indjet.com/products/overview.aspx" TargetMode="External"/><Relationship Id="rId2" Type="http://schemas.openxmlformats.org/officeDocument/2006/relationships/hyperlink" Target="http://www.joensuu.fi/isvy/arviointimateriaali/kasitekohjeet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eb.uvic.ca/hrd/halfbaked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ta.fi/tyt/verkkotutor/arviointi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ta.fi/tyt/verkkotutor/myssyohjeet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oensuu.fi/isvy/arviointimateriaali/yleista_arv_menetelmist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penetti.aokk.hamk.fi/ntm2001/portfolio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qform.edu.helsinki.fi/iqform2/start.php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20360" y="1934640"/>
            <a:ext cx="885348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720720" y="1994040"/>
            <a:ext cx="885348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eija Kaaki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erkko-opetus 4 o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Elektroniset testit - Itsearviointitestit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(Quizz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oveltuvat hyvin mm. lähtötietotason arviointi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taja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EI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tso oheisesta linkistä oppimistyylin arviointiin kehitetty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oma työkalu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0360" y="598320"/>
            <a:ext cx="8458200" cy="11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Opettajalle palautuvat elektroniset testit: kvantitatiiviset (objektiiviset) ja kvalitatiiviset (subjektiiviset) test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20360" y="180036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vantitatiivisia testejä ovat testit, joiden kysymyksiin on olema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tty määriteltävissä oleva vasta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valitatiivisissa testeissä oikeita vastauksia voi olla use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160720" y="3419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Kvantitatiiviset testit arvioinnis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674720"/>
            <a:ext cx="8853480" cy="53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yseessä ”kysymys-vastaus” -tyyppi, jossa oikea vastaus on määritettävissä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.Monivalintakysymykset (Multiple Choice Questions ja Multiple Response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Ques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) Runko, B) häiritsevät/väärät ja C) oikeat vastauks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yvä runko on yksinkertainen, yksiselitteinen, vähän negaatioita, ei sanoja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”aina” tai ”ei koskaan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stauksissa älä anna vinkkejä, väärienkin vastausten pitäisi olla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ahdolli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.Oikein-väärin –väittämä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3.Yhdistelytehtävät (laita enemmän ”vastauksia” kuin ”kysymyksiä”, salli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useampi oikea ”vastaus”/”kysymys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4.Järjestävät kysymyk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5.Kuvasta kohteen tai paikan tunnistaminen (Graphical Hotspot tai Image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bell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6.Lyhyen numeraalisen tai verbaalisen vastauksen antaminen (”tyhjät aukot”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sim. kielissä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vantitatiiviset tes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20360" y="2101680"/>
            <a:ext cx="88534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kset nopeita tarkastaa, koska kone voi sen tehd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Yleensä myös nopeita vastata, joten kysymyksillä voidaan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ttaa laaja materia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Tilastolliset analyysit opiskelijoiden taidoista helppo kartoitta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Kysymyksiin voidaan sisällyttää automaattista palautett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(vihjeitä, ohjeistusta, pisteyty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Sopivat faktatiedon kontrollointiin ja itsearviointiin, ei helposti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gumentaatiota vaativaan arviointi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Ongelmana myös arvaamisen mahdollisuus ja autentikoi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e lisää testeistä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ästä link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0360" y="50760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Kvalitatiiviset (subjektiiviset) test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20360" y="1439640"/>
            <a:ext cx="885348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Ei yhtä ainoaa oikeaa vastau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rviointia ei voi automatiso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ikaa vieviä tarkasta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ntavat laadullisen kuvan opiskelijan oppimis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Esim. esseet, raportit, tiivistelmät,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496960" y="3301920"/>
            <a:ext cx="5423040" cy="3537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Kirjallinen kuulustel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20360" y="1844280"/>
            <a:ext cx="885348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inteinen kirjallinen tentti, mutta suorituspaikkana tietoverkk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ika ja paikka vapaammin valittavi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enttiakvaario on tietokantapohjainen sovellus, joka on suunniteltu erityisesti yliopistojen yle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enttipäivien täydentäjäksi. Sen avulla opiskelija voi tenttiä kurssit itselleen parhaiten sopiv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jankohtana. Kuulusteluun vastaaminen tapahtuu valvotussa tilassa. Myös opettajan ty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elpottuu, sillä Tenttiakvaario perustaa kunkin tenttitilaisuuden automaattisesti. Opettaja määrittä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ain ohjeet tentin muodostamista varten sekä tallentaa ennakolta 20-50 kysymystä tietokanta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inoaksi tehtäväksi jää tentin arvostelu, joka sekin tapahtuu tietokoneen avulla – il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äsialaongelmia. Lue lisää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enttiakvaario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oodle-järjestelmän sähköisen tentin informaatiota löydät 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tästä link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Kirjalliset tehtävä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20360" y="1644120"/>
            <a:ext cx="8853480" cy="44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Essee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(käytä mielenkiintoisia ja autenttisia aiheit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Yksilö- tai ryhmätyönä (myös arvioint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Prosessointia voi tehdä omassa tahdissa + (a)synkronis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rkossa, verkko mahdollistaa hyvin laadullisen ja dialog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nnin ja vertaisarvioinn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Harjoitustyöraportit/näyttöko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Opettaja antaa tehtävän, oppija tekee sen ja raportoi verkos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nti vertaisarviona ja opettaja-arvioint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Vahvistaa uuden tiedon käyttöönottoa, ja vertaisarviointi lisä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ntitaito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Verkkokeskustelu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(voivat hyvin liittyä osana edellisii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36000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Kysymyksiä verkkotehtävist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20360" y="126036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vatko ajallisesti rajallisia? Arvioidaanko arvosano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ontako yritystä sallitaan? Mitä jos yhteys katkeaa kes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estin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ten opettaja voi varmistua siitä, kuka testin tekee? Vilpp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itäisikö verkkotenttien olla yksilö - vai ryhmätenttejä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160720" y="3255840"/>
            <a:ext cx="560232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0360" y="628200"/>
            <a:ext cx="845820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Kurssin lopulla tai lopussa raportointi (End-of-Activity Repor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20360" y="1983960"/>
            <a:ext cx="885348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tajan tekemien kysymyksen avulla oppiminen vahvistu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hdolliset väärinkäsitykset paljastuvat, oppijaa ohja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takognitiivisiin prosesseihin ja opettaja saa tietoa kurs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hittämistä var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ymykset voisivat olla esim. 1) Mitkä kolme asiaa tai oivall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t tällä kurssilla? 2) Mitkä kohdat tai käsitteet jäivät epäselvä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i olivat vaikeimpia? ja 3) Jos itse olisit kysymässä täh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rssiin liittyvää oppimista niin mitä kysyisit? 4) Miten ryhmä tu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pimistasi? 5) Miten toimit ryhmässä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20360" y="612720"/>
            <a:ext cx="8853480" cy="69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äsitetesti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: kysytään keskeisiä alan käsitteit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sim. monivalintakysymyksiä, joissa vain yksi on oike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s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a muut vastausvaihtoehdot ”sekoittavi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oi tehdä monessa eri aikapisteess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ntaa tietoa opiskelijoiden ymmärryksestä, ohjaa suuntaa 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uhtia kurssin etenemisessä ja kannustaa oppijo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takognitiivisiin prosesseihin ja reflekti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Omin sanoin kertominen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lyhye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skelijaa pyydetään esim. sähköpostitse vetämään yhteen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rssin keskeinen asia kahdella-kolmella lauseell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vainsanoja käyttä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tajalle nopea tarkistaa, opettaa oppijalle tiivistämistä j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timen löytäm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uullinen tentti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(videoneuvotteluna, esim. connect pr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ito vuorovaikutustila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oidaan toteuttaa myös ryhmätenttinä, jolloin oppimisen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osiaalinen luonne korostu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5580000"/>
            <a:ext cx="885204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15.5.2009 Seija Kaak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720720" y="665280"/>
            <a:ext cx="8458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Arviointi verkko-opetuksess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303640" y="2195640"/>
            <a:ext cx="5040000" cy="3419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/>
          <p:cNvSpPr/>
          <p:nvPr/>
        </p:nvSpPr>
        <p:spPr>
          <a:xfrm>
            <a:off x="6119640" y="2340000"/>
            <a:ext cx="3600720" cy="2879640"/>
          </a:xfrm>
          <a:prstGeom prst="roundRect">
            <a:avLst>
              <a:gd name="adj" fmla="val 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Osaamisanalyysit</a:t>
            </a: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(miellekartat, käsitekartat, SWO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20360" y="1260360"/>
            <a:ext cx="8853480" cy="65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ellekartta perustuu vapaaseen assosiaatioon 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uttaa hahmottamaan jonkin kokonaisuu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sa-alueita ja suhtei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likkaa seuraavaa osoitetta miellekartan sovelluksiin verkos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mindjet.com/products/overview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Käsitekartan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tavoitteena on johonkin käsitteeseen liittyvien merkitysten 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uhteiden selvittäminen graafisesti. Se on hierarkkisesti jäsennelty, ja siin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oi olla yhdistäviä san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7020000" y="1619280"/>
            <a:ext cx="2160360" cy="1789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0720" y="72072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Osaamisanalyy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9040" y="1439640"/>
            <a:ext cx="88502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WOT-analyysissä opiskelija kirjaa ensin vahvuudet (strength), heikkou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(weakness), mahdollisuudet (opportunity) ja uhat (threat). Tämän jälkeen v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ettiä kuinka tulevaisuudessa tulisi toimia, jotta vahvuudet entisestää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aranisivat, kuinka heikkouksia voisi kehittää, miten mahdollisuuksista tehd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otta ja miten uhkia voi torj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97200" y="3209760"/>
            <a:ext cx="476244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0720" y="495000"/>
            <a:ext cx="881712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Itseopiskelussa hyödynnettävä Hot potatoes ohjelm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6880" y="1591920"/>
            <a:ext cx="885204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ww-sivuille tai oppimisympäristöjen osaksi voi tehdä itseopiskeluun sopi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rjoitustehtäviä (monivalinta, aukkoharjoitus, yhdistely, ristisanatehtävä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jotka  opiskelija itse myös tarkistaa. Harjoitusten tulos ei tallennu mihinkää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ikä opettaja saa sitä nähtäväks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rjoitus tehdään ja muokataan  Hot Potatoes -ohjelmalla, ja tallenne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itten html- muotoon www-sivuille siirtämistä var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hjelma on ilmainen, mikäli ohjelmalla tuotettu materiaali laitetaan verkk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ikkien  vapaasti saatavi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hjelma ladataan omalle koneelle osoitteesta: </a:t>
            </a:r>
            <a:r>
              <a:rPr b="0" lang="fi-FI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eb.uvic.ca/hrd/halfbake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45820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Ja lopuksi: mitä on hyvä arviointi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60360" y="1485720"/>
            <a:ext cx="809928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sko Karjalaisen (2001) mukaan se 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äännöllistä, ei vain lopussa tapahtu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onipuolista, monimetodi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utenttisia ja innostavia oppimistehtäviä sisältävä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piskelijakeskeistä –sisällytä itsearviointi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ppimista ohjaa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ppijan itseohjautuvuutta ja itsearviointi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ykyjen kehittymistä tuke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riteereihin perustu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riteerit läpinäkyviä, tarkoituksenmukaisia, realistisia, erottelukykyisiä 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ikeudenmuka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uista aukaista arviointikriteerit heti kurssin aluss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uista laadukkaan, rakentavan ja viivyttelemättömän palautteen su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erkitys oppimis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isällytä arviointiin vuorovaikutu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ee kohderyhmäanalyysi (lähtötiedot, resurssit, taido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rityisesti teknisten asioiden toimivuus varmistettava verkkoarvioinnis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rvioi arviointi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8280360" y="1440000"/>
            <a:ext cx="1440000" cy="143964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119640" y="2879640"/>
            <a:ext cx="3816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Taustalla soi ääninäyte elokuvasta ”Lost in translation”.  Musiikkihan tunnetusti edistää oppimist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704000" y="1763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656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360" y="14724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jatkuu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20360" y="72072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rviointi on oppijan kannalta oppimista edistävää ja ”reilua”, mikäli arviointi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iittyy autenttisiin tehtävi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erustuu kohtuullisiin vaatimuksi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ohkaisee opiskelijoita soveltamaan omaa tietoa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htaa pitkäaikaisiin hyötyih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lkitsee aitoa yritystä, enemmän kuin ”tuuria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lkitsee oppimisen syvyyttä ja laajuut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distää oppijan itsenäisyyttä antamalla selkeät kriteerit odotuksi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ntaa riittävästi palautetta opiskelijan kehityksest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eskittyy monimutkaisten taitojen ja ominaisuuksien arviointi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2700360" y="3959280"/>
            <a:ext cx="485928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0360" y="360360"/>
            <a:ext cx="8456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Tekijänoikeudet verkko-opetukses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7600" y="1722240"/>
            <a:ext cx="8852040" cy="47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usministeriö edellyttää, että jokaise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usministeriön rahoittamassa virtuaal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rkko-opetushankkeessa huolehdit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iitä, että aineistojen tekijöiden kan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ovitaan verkko-opetuksen aineis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ottamisesta ja käyttöoikeuksi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rvittavassa laajuudes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e lisää tekijänoikeuks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ccccff"/>
                </a:solidFill>
                <a:latin typeface="Arial"/>
              </a:rPr>
              <a:t>virtuaaliyliopiston linkistä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9280" y="32400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ähteet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20720" y="1186920"/>
            <a:ext cx="88502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olma, J. 2007. Sähköinen tenttipalvelu Tampereen yliopistoss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arjalainen, A. 2001. Tentin teori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Mäkinen, P., 2001. Verkkotutor. </a:t>
            </a:r>
            <a:r>
              <a:rPr b="0" lang="fi-FI" sz="1400" spc="-1" strike="noStrike">
                <a:solidFill>
                  <a:srgbClr val="ccccff"/>
                </a:solidFill>
                <a:latin typeface="Arial"/>
              </a:rPr>
              <a:t>http://www.uta.fi/tyt/verkkotutor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Niikko, A. 2000. Portfolio oppimisen avartajana. Tampere: Tammer-Paino O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Wulff, A. 2004. Oppimisen arviointi verkossa. </a:t>
            </a:r>
            <a:r>
              <a:rPr b="0" lang="fi-FI" sz="1400" spc="-1" strike="noStrike">
                <a:solidFill>
                  <a:srgbClr val="ccccff"/>
                </a:solidFill>
                <a:latin typeface="Arial"/>
              </a:rPr>
              <a:t>http://koti.mbnet.fi/wulff/arviointi_080304_files/v3_documen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Muut link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ww.joensuu.fi/isvy/arviointimateriaali/yleista_arv_menetelmis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ww.joensuu.fi/isvy/arviointimateriaali/kasitekohjee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openetti.aokk.hamk.fi/ntm20017portfolio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virtuaaliyliopisto.fi/palvelut/iqfor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virtuaaliyliopisto.fi/vy_tietovarantoja_tekijanoikeudet_alku_fin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caacentre.ac.uk/resources/objective_tests/index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tievie.oulu.fi/arvioinnin_abc/caset/tenttiakvaario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ww.mindjet.com/products/overview.a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eb.uvic.ca/hrd/halfbaked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0720" y="72864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 arvioint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9040" y="1618920"/>
            <a:ext cx="88502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rviointi antaa tilannekuvausta siitä, missä ollaan, minne mennään ja millä tavalla kannattaa edetä. Arviointi on erottamaton osa oppimisprose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800360" y="2959200"/>
            <a:ext cx="6350040" cy="4241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1080" y="86796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 arviointia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440" y="1442520"/>
            <a:ext cx="8853480" cy="63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rvioinnilla on mm. seuraavia tehtäviä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1. Toteam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2. Ohja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3. Valiko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4. Motivo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5. Kontrol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6. Kehit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ue lisää arvioinnista </a:t>
            </a:r>
            <a:r>
              <a:rPr b="0" lang="fi-FI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verkkotutorin sivuilta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20720" y="1665360"/>
            <a:ext cx="7964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Tikkaiden poikkipuut eivät ole lepäämistä varten, vaan siksi, että toinen jalka saa tukea kun toinen siirtyy ylemmäs. </a:t>
            </a:r>
            <a:br>
              <a:rPr sz="1800"/>
            </a:b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(Thomas Huxley)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0360" y="36000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erkko-opetuksen arvioinn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440" y="1091880"/>
            <a:ext cx="8853480" cy="64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Uusia työkaluja: monimetodisuus, vuorovaikutteisuuden lisääntymi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tsearviointi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-oppimispäiväkirja, e-portfol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ektronisia ”tsekkaa tietosi” testejä, webbikyselyj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skustelufoorumi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 – oppija(t) tai oppija - oppija(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ksityinen / julkinen keskustel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otoksen työstämisen työkalut: yhteiset ”pajat”, webbisiv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skeluhistorian seuraaminen mahdollista: prosessiarviointi mahdollista. Tälläinen työkalu on esim. mietintämyssy,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ue lisää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eiden ja eleiden puuttuminen ja asynkronisuus vaikeuttaa arvioin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Arviointikeinoja verko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20360" y="1857240"/>
            <a:ext cx="88534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1. Asennetest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2. E-Portfolio (oppijan oppimistehtävien kokoelma verkoss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3. E-Oppimispäiväkir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4. Elektroniset test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5. Kirjallinen kuulustel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6. Kirjalliset tehtävät (esseet, raportit/näyttökoe, muistiot, tutkielmat, keskustelu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7. Käsitetest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8. Omin sanoin kertominen lyhyes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9. Osaamisanalyysit (miellekartat, käsitekartat, SWOT-analyysi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10. Suullinen tentti (videoneuvottelu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Lue lisää arviointimenetelmistä </a:t>
            </a:r>
            <a:r>
              <a:rPr b="0" lang="fi-FI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ästä linkist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E-Portfolio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(oppijan oppimistehtävien kokoelma verkos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20360" y="1644120"/>
            <a:ext cx="8853480" cy="50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oi sisältää tekstiä, kuvia, videoklippejä, ääntä ja animaatio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keskusteluryhmän liittäminen kunkin työn yhteyt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opiskelijakeskei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rviointi perustuu erilaisuuden hyväksymis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kriteereistä yhdessä sopiminen erityisen tärkeä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näyteportfolioon liitettävä itsearviointi ja tulevaisuusnäkymä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hyvä liittää arviointiin myös vertaisarvioi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portfolion kerääminen lisää metakognitiivisia ja itsearvioinnin taitoja “Digital portfolios make learning and working even more visible and sharable and their evaluation more reflective, interactive and negotiable” Linnakylä Pirjo.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e lisää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ortfoliotyöskentelystä arvioinnissa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720" y="72864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20720" y="4562280"/>
            <a:ext cx="88502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va 1. Portfoliotyöskentelyn keskeiset alueet (Niikko 2000, mukaill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201760" y="1440000"/>
            <a:ext cx="4997520" cy="3779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E-Oppimispäiväkir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9280" y="1279440"/>
            <a:ext cx="885348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skelijan pitämä vapaamuotoinen päiväkirja oppimisesta. 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hjalta opiskelija tekee yhteenvedon hänelle tärke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pimiskokemuksista; kehittä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jattelua ja tekstintuottamisvalmiuks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ektronisia työkaluja löydä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euraavasta linkistä: 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IQ-Form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6119640" y="2340000"/>
            <a:ext cx="317196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0:40:21Z</dcterms:created>
  <dc:creator>Seija Kaakinen</dc:creator>
  <dc:description/>
  <dc:language>en-US</dc:language>
  <cp:lastModifiedBy>Administrator</cp:lastModifiedBy>
  <dcterms:modified xsi:type="dcterms:W3CDTF">2010-03-31T11:48:17Z</dcterms:modified>
  <cp:revision>17</cp:revision>
  <dc:subject/>
  <dc:title> </dc:title>
</cp:coreProperties>
</file>