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547EB-92AB-4415-AEE2-A1DF874B304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93BD0-DCC3-4B97-8918-37AF0DACE8F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6C3F3-01BD-4FDE-9EB9-7E4AA36A6C9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F9E0D-4664-42C4-835E-02B3CF60EC2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CEB3C-AE03-42EE-A120-C2D238A808B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654ED-0B24-4542-909E-AF40E6EEE67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15629-7541-4522-A40D-DE64A3B5F8D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092C3-E384-464B-9C29-6904312C00F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D7BBB-FEB1-4790-8E64-C2C40560E46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E58CB-E5FF-4287-9E6A-6EF975699B3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ACC3D-2463-4C04-A291-0807E2B5C31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B06A6-CE62-4930-98E5-D0EDDEE9E99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6BDAF-28B5-4389-892B-F4F028BEBAA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9E9E6-FEA6-4945-AE2A-D94A3ECD833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4FBCA-D7F2-4AC2-B87A-A719EC2B3F0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938C2-6860-4CFE-B43F-3BC0BAC3870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A3486-6199-4DDB-B383-875336759E1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104B8-D5E8-491F-9B08-6BF7230561A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F429F-10CF-4F24-B1D3-CD3A4F1F3FC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5E2E8-A438-45B0-8381-C62F688A511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AE6E4-A7FC-4C9A-A970-13FD74FFE41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8A22B-DA81-4259-9A45-9F473A8012C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1776B-6110-4FAD-92DA-879D0666369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356EE-A293-45D0-858B-DDB5F7736C7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9425D-E286-442B-92C8-AFAB321B1DF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D7E05-4215-4B25-B99F-FD5335A3C81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FA1BB-C6C6-4270-A655-EB047221B63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46B-0FE8-4B15-9225-FAF71F6F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1DA-C3C8-4AC0-BD71-022FA83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3EB-4FAE-499C-9B65-0B2809B9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160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248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160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248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FDA-B994-405B-B50C-D632F75E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636-651C-4F8E-BDC0-B4A01302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E2E-245A-4CE3-93AF-28396223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92E-2563-487D-ADBB-A9A73451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4D8-26C5-47F0-A039-829F76EB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360"/>
            <a:ext cx="845172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62B-9927-4A46-8543-594E5968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689-BD69-47D2-9C1F-7E16C3FD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C12-EE35-47BF-8390-9F932BCD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4B6-E090-42BA-BA5E-718A7BD8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3183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6640" y="6346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1000" y="6346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090EEC-9C58-4717-B5EC-761CF15BFA6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aacentre.ac.uk/resources/objective_tests/index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evie.oulu.fi/arvioinnin_abc/caset/tenttiakvaario.htm" TargetMode="External"/><Relationship Id="rId2" Type="http://schemas.openxmlformats.org/officeDocument/2006/relationships/hyperlink" Target="http://www.uta.fi/tyt/avoin/moodlestamoneksi/Sahkoinen_tenttipalvelu_TaYssa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ndjet.com/products/overview.aspx" TargetMode="External"/><Relationship Id="rId2" Type="http://schemas.openxmlformats.org/officeDocument/2006/relationships/hyperlink" Target="http://www.joensuu.fi/isvy/arviointimateriaali/kasitekohjeet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eb.uvic.ca/hrd/halfbake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arviointi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myssyohjee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oensuu.fi/isvy/arviointimateriaali/yleista_arv_menetelmist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penetti.aokk.hamk.fi/ntm2001/portfoli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0360" y="1934640"/>
            <a:ext cx="885348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720720" y="1994040"/>
            <a:ext cx="8853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eija Kaaki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rkko-opetus 4 o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ktroniset testit - Itsearviointitestit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Quizz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eltuvat hyvin mm. lähtötietotaso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E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so oheisesta linkistä oppimistyylin arviointiin kehitetty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ma työkalu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360" y="598320"/>
            <a:ext cx="845820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pettajalle palautuvat elektroniset testit: kvantitatiiviset (objektiiviset) ja kvalitatiiviset (subjektiiviset) tes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20360" y="180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ntitatiivisia testejä ovat testit, joiden kysymyksiin on olem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ty määriteltävissä oleva vasta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litatiivisissa testeissä oikeita vastauksia voi olla us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160720" y="3419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vantitatiiviset testit arvioinni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674720"/>
            <a:ext cx="885348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yseessä ”kysymys-vastaus” -tyyppi, jossa oikea vastaus on määritettäviss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.Monivalintakysymykset (Multiple Choice Questions ja Multiple Respons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) Runko, B) häiritsevät/väärät ja C) oikeat vastau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runko on yksinkertainen, yksiselitteinen, vähän negaatioita, ei sanoj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”aina” tai ”ei koskaa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stauksissa älä anna vinkkejä, väärienkin vastausten pitäisi oll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.Oikein-väärin –väittäm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.Yhdistelytehtävät (laita enemmän ”vastauksia” kuin ”kysymyksiä”, salli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seampi oikea ”vastaus”/”kysymys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4.Järjestävät kysymy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5.Kuvasta kohteen tai paikan tunnistaminen (Graphical Hotspot tai Imag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bell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.Lyhyen numeraalisen tai verbaalisen vastauksen antaminen (”tyhjät aukot”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sim. kielissä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vantitatiiviset tes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20360" y="2101680"/>
            <a:ext cx="88534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kset nopeita tarkastaa, koska kone voi sen tehd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leensä myös nopeita vastata, joten kysymyksillä voidaa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taa laaja materia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Tilastolliset analyysit opiskelijoiden taidoista helppo kartoit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ysymyksiin voidaan sisällyttää automaattista palautett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vihjeitä, ohjeistusta, pisteyty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Sopivat faktatiedon kontrollointiin ja itsearviointiin, ei helpost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gumentaatiota vaativaa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ngelmana myös arvaamisen mahdollisuus ja autentik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steist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5076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valitatiiviset (subjektiiviset) tes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20360" y="143964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i yhtä ainoaa oikeaa vastau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a ei voi automatiso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ikaa vieviä tarkas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ntavat laadullisen kuvan opiskelijan oppimis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sim. esseet, raportit, tiivistelmät,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496960" y="3301920"/>
            <a:ext cx="542304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nen kuulustel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0360" y="1844280"/>
            <a:ext cx="885348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inteinen kirjallinen tentti, mutta suorituspaikkana tietoverk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ka ja paikka vapaammin valittav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akvaario on tietokantapohjainen sovellus, joka on suunniteltu erityisesti yliopistojen y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päivien täydentäjäksi. Sen avulla opiskelija voi tenttiä kurssit itselleen parhaiten sopi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jankohtana. Kuulusteluun vastaaminen tapahtuu valvotussa tilassa. Myös opettajan ty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elpottuu, sillä Tenttiakvaario perustaa kunkin tenttitilaisuuden automaattisesti. Opettaja määrittä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n ohjeet tentin muodostamista varten sekä tallentaa ennakolta 20-50 kysymystä tietokant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inoaksi tehtäväksi jää tentin arvostelu, joka sekin tapahtuu tietokoneen avulla – il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äsialaongelmia. Lue lisää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nttiakvaari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odle-järjestelmän sähköisen tentin informaatiota löydät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set tehtävä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sse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käytä mielenkiintoisia ja autenttisia aihei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ksilö- tai ryhmätyönä (myös arvioin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rosessointia voi tehdä omassa tahdissa + (a)synkron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ossa, verkko mahdollistaa hyvin laadullisen ja dialog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nin ja vertaisarvioinn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Harjoitustyöraportit/näyttök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ettaja antaa tehtävän, oppija tekee sen ja raportoi verkos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 vertaisarviona ja opettaja-arvioin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Vahvistaa uuden tiedon käyttöönottoa, ja vertaisarviointi lis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tait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keskustel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oivat hyvin liittyä osana edellisi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ysymyksiä verkkotehtävist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vatko ajallisesti rajallisia? Arvioidaanko arvosano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tako yritystä sallitaan? Mitä jos yhteys katkeaa kes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sti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opettaja voi varmistua siitä, kuka testin tekee? Vilpp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täisikö verkkotenttien olla yksilö - vai ryhmätenttej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160720" y="3255840"/>
            <a:ext cx="560232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628200"/>
            <a:ext cx="845820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urssin lopulla tai lopussa raportointi (End-of-Activity Repor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98396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n tekemien kysymyksen avulla oppiminen vahvistu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et väärinkäsitykset paljastuvat, oppijaa ohj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opettaja saa tietoa kur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hittämistä va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kset voisivat olla esim. 1) Mitkä kolme asiaa tai oivall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t tällä kurssilla? 2) Mitkä kohdat tai käsitteet jäivät epäselvä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i olivat vaikeimpia? ja 3) Jos itse olisit kysymässä täh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in liittyvää oppimista niin mitä kysyisit? 4) Miten ryhmä t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tasi? 5) Miten toimit ryhmässä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0360" y="612720"/>
            <a:ext cx="8853480" cy="69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äsitetest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ysytään keskeisiä alan käsittei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monivalintakysymyksiä, joissa vain yksi on oike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 muut vastausvaihtoehdot ”sekoittav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tehdä monessa eri aikapisteess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taa tietoa opiskelijoiden ymmärryksestä, ohjaa suuntaa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uhtia kurssin etenemisessä ja kannustaa oppijo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reflekt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min sanoin kertomine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lyhy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a pyydetään esim. sähköpostitse vetämään yhte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n keskeinen asia kahdella-kolmella lauseell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vainsanoja käyttä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lle nopea tarkistaa, opettaa oppijalle tiivistämistä j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timen löy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ullinen tentt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ideoneuvotteluna, esim. connect pr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to vuorovaikutustila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daan toteuttaa myös ryhmätenttinä, jolloin oppimis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siaalinen luonne korostu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5580000"/>
            <a:ext cx="88520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15.5.2009 Seija Kaak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20720" y="665280"/>
            <a:ext cx="8458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 verkko-opetuksess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303640" y="2195640"/>
            <a:ext cx="5040000" cy="3419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119640" y="2340000"/>
            <a:ext cx="3600720" cy="287964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miellekartat, käsitekartat, SWO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65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llekartta perustuu vapaaseen assosiaatioon 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uttaa hahmottamaan jonkin kokonaisuu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sa-alueita ja suhte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likkaa seuraavaa osoitetta miellekartan sovelluksiin verkos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indjet.com/products/overview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Käsitekartan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tavoitteena on johonkin käsitteeseen liittyvien merkitysten 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hteiden selvittäminen graafisesti. Se on hierarkkisesti jäsennelty, ja sii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oi olla yhdistäviä san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9040" y="143964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OT-analyysissä opiskelija kirjaa ensin vahvuudet (strength), heikko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weakness), mahdollisuudet (opportunity) ja uhat (threat). Tämän jälkeen v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ttiä kuinka tulevaisuudessa tulisi toimia, jotta vahvuudet entisest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anisivat, kuinka heikkouksia voisi kehittää, miten mahdollisuuksista tehd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tta ja miten uhkia voi torj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97200" y="3209760"/>
            <a:ext cx="47624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495000"/>
            <a:ext cx="8817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Itseopiskelussa hyödynnettävä Hot potatoes ohjel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6880" y="1591920"/>
            <a:ext cx="885204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ww-sivuille tai oppimisympäristöjen osaksi voi tehdä itseopiskeluun sop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tehtäviä (monivalinta, aukkoharjoitus, yhdistely, ristisanatehtävä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otka  opiskelija itse myös tarkistaa. Harjoitusten tulos ei tallennu mihinkää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ikä opettaja saa sitä nähtäväk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 tehdään ja muokataan  Hot Potatoes -ohjelmalla, ja tallenne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itten html- muotoon www-sivuille siirtämistä v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on ilmainen, mikäli ohjelmalla tuotettu materiaali laitetaan verk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en  vapaasti saatav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ladataan omalle koneelle osoitteesta: </a:t>
            </a: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eb.uvic.ca/hrd/halfbake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45820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 lopuksi: mitä on hyvä arviointi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60360" y="1485720"/>
            <a:ext cx="80992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sko Karjalaisen (2001) mukaan se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äännöllistä, ei vain lopussa tapah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nipuolista, monimetod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utenttisia ja innostavia oppimistehtäviä sisältävä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iskelijakeskeistä –sisällytä itse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mista ohjaa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jan itseohjautuvuutta ja itsearvioint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ykyjen kehittymistä tuke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eihin perus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it läpinäkyviä, tarkoituksenmukaisia, realistisia, erottelukykyisiä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ikeudenmuka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aukaista arviointikriteerit heti kurssin aluss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laadukkaan, rakentavan ja viivyttelemättömän palautteen su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rkitys oppimis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isällytä arviointiin vuorovaikut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e kohderyhmäanalyysi (lähtötiedot, resurssit, taido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tyisesti teknisten asioiden toimivuus varmistettava verkkoarvioinnis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 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8280360" y="1440000"/>
            <a:ext cx="1440000" cy="14396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9640" y="2879640"/>
            <a:ext cx="3816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Taustalla soi ääninäyte elokuvasta ”Lost in translation”.  Musiikkihan tunnetusti edistää oppimist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704000" y="1763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65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14724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tku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20360" y="72072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on oppijan kannalta oppimista edistävää ja ”reilua”, mikäli arviointi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ttyy autenttisiin tehtäv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tuu kohtuullisiin vaatimuks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ohkaisee opiskelijoita soveltamaan omaa tieto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htaa pitkäaikaisiin hyötyi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aitoa yritystä, enemmän kuin ”tuuri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oppimisen syvyyttä ja laajuut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distää oppijan itsenäisyyttä antamalla selkeät kriteerit odotuks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taa riittävästi palautetta opiskelijan kehitykses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skittyy monimutkaisten taitojen ja ominaisuuksien arvioint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85928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360" y="360360"/>
            <a:ext cx="8456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Tekijänoikeudet verkko-opetukse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600" y="1722240"/>
            <a:ext cx="8852040" cy="47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 edellyttää, että jokaise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n rahoittamassa virtuaal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-opetushankkeessa huolehdi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itä, että aineistojen tekijöiden kan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itaan verkko-opetuksen aineis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tamisesta ja käyttöoikeuks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vittavassa laajuude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kijänoikeuks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ccccff"/>
                </a:solidFill>
                <a:latin typeface="Arial"/>
              </a:rPr>
              <a:t>virtuaaliyliopiston linkist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32400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ähteet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20720" y="1186920"/>
            <a:ext cx="88502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olma, J. 2007. Sähköinen tenttipalvelu Tampereen yliopisto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rjalainen, A. 2001. Tentin te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äkinen, P., 2001. Verkkotutor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www.uta.fi/tyt/verkkotutor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ikko, A. 2000. Portfolio oppimisen avartajana. Tampere: Tammer-Paino 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Wulff, A. 2004. Oppimisen arviointi verkossa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koti.mbnet.fi/wulff/arviointi_080304_files/v3_documen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uut link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yleista_arv_menetelmis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kasitekohjee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openetti.aokk.hamk.fi/ntm20017portfol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palvelut/iqfor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vy_tietovarantoja_tekijanoikeudet_alku_fin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caacentre.ac.uk/resources/objective_tests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tievie.oulu.fi/arvioinnin_abc/caset/tenttiakvaar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mindjet.com/products/overview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eb.uvic.ca/hrd/halfbake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9040" y="161892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ti antaa tilannekuvausta siitä, missä ollaan, minne mennään ja millä tavalla kannattaa edetä. Arviointi on erottamaton osa oppimisprose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00360" y="295920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080" y="86796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442520"/>
            <a:ext cx="8853480" cy="63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nilla on mm. seuraavia tehtäviä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1. Totea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2. Ohja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3. Valik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4. Motiv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5. Kontrol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6. Kehi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ue lisää arvioinnista </a:t>
            </a:r>
            <a:r>
              <a:rPr b="0" lang="fi-FI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verkkotutorin sivuilta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20720" y="1665360"/>
            <a:ext cx="796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ikkaiden poikkipuut eivät ole lepäämistä varten, vaan siksi, että toinen jalka saa tukea kun toinen siirtyy ylemmäs. </a:t>
            </a:r>
            <a:br>
              <a:rPr sz="1800"/>
            </a:b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Thomas Huxley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36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rkko-opetuksen arvioin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440" y="1091880"/>
            <a:ext cx="8853480" cy="64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usia työkaluja: monimetodisuus, vuorovaikutteisuuden lisäänty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tsearviointi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-oppimispäiväkirja, e-portfol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”tsekkaa tietosi” testejä, webbikyselyj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foorumi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 – oppija(t) tai oppija - oppija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tyinen / julkinen keskust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oksen työstämisen työkalut: yhteiset ”pajat”, webbisiv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uhistorian seuraaminen mahdollista: prosessiarviointi mahdollista. Tälläinen työkalu on esim. mietintämyssy,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ue lisä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eiden ja eleiden puuttuminen ja asynkronisuus vaikeuttaa arvioi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keinoja verko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20360" y="1857240"/>
            <a:ext cx="88534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. Asenn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2. E-Portfolio (oppijan oppimistehtävien kokoelma verkoss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3. E-Oppimispäiväkir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4. Elektroniset 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5. Kirjallinen kuulustel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6. Kirjalliset tehtävät (esseet, raportit/näyttökoe, muistiot, tutkielmat, keskustelu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7. Käsit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8. Omin sanoin kertominen lyhye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9. Osaamisanalyysit (miellekartat, käsitekartat, SWOT-analyys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0. Suullinen tentti (videoneuvottelu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Lue lisää arviointimenetelmistä </a:t>
            </a:r>
            <a:r>
              <a:rPr b="0" lang="fi-FI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Portfolio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oppijan oppimistehtävien kokoelma verko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sisältää tekstiä, kuvia, videoklippejä, ääntä ja animaatio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eskusteluryhmän liittäminen kunkin työn yhteyt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iskelijakeske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 perustuu erilaisuuden hyväksymis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riteereistä yhdessä sopiminen erityisen tärkeä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näyteportfolioon liitettävä itsearviointi ja tulevaisuusnäkym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hyvä liittää arviointiin myös vertaisarv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ortfolion kerääminen lisää metakognitiivisia ja itsearvioinnin taitoja “Digital portfolios make learning and working even more visible and sharable and their evaluation more reflective, interactive and negotiable” Linnakylä Pirjo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ortfoliotyöskentelystä arvioinniss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20720" y="456228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 1. Portfoliotyöskentelyn keskeiset alueet (Niikko 2000, mukaill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201760" y="1440000"/>
            <a:ext cx="499752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Oppimispäiväkir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9280" y="1279440"/>
            <a:ext cx="88534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n pitämä vapaamuotoinen päiväkirja oppimisesta. 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hjalta opiskelija tekee yhteenvedon hänelle tärk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kokemuksista; kehitt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jattelua ja tekstintuottamisvalmiuk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työkaluja löyd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uraavasta linkistä: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Q-Form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119640" y="234000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0:40:21Z</dcterms:created>
  <dc:creator>Seija Kaakinen</dc:creator>
  <dc:description/>
  <dc:language>en-US</dc:language>
  <cp:lastModifiedBy>Administrator</cp:lastModifiedBy>
  <dcterms:modified xsi:type="dcterms:W3CDTF">2010-03-31T11:48:17Z</dcterms:modified>
  <cp:revision>17</cp:revision>
  <dc:subject/>
  <dc:title> </dc:title>
</cp:coreProperties>
</file>